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390-6145-4175-9EC2-06B79BEE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053-3F43-401A-9BF7-CBB34DA1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2F6-08E4-44C3-A2F2-BA5ECC6E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BC2-38B5-42CD-A6F1-6F833D68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49C-0117-49C9-8E34-879C148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8E7-4016-4C41-9E72-0816A82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A5A-BBE0-4AAB-8F5C-C2DD9E3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83E-7512-4FAC-B867-0B6909EF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67D-A39A-4A5D-BBB0-C4276BBB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07F-0426-43C6-97BF-E2BD230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9FD-58CA-4177-940D-6413812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520-6CFC-4D4E-A4FF-8293BA3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6E5FD2-2F44-45BB-B2C7-61372C993253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86040" y="476280"/>
            <a:ext cx="2884680" cy="22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4640" y="8121600"/>
            <a:ext cx="3178440" cy="154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2966400" y="49320"/>
            <a:ext cx="2004840" cy="668160"/>
          </a:xfrm>
          <a:prstGeom prst="wedgeEllipseCallout">
            <a:avLst>
              <a:gd name="adj1" fmla="val -36620"/>
              <a:gd name="adj2" fmla="val 6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1720" y="166680"/>
            <a:ext cx="1798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e work for your associate Mr Wallace, you do remember your business partner don’t y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57240"/>
            <a:ext cx="262260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irac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260280" y="1612800"/>
            <a:ext cx="3497400" cy="8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) Put the date, copy the above title and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underline both  using a ru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) Copy the writing in the box below tak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care with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760" y="2724120"/>
            <a:ext cx="6429240" cy="18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2865600"/>
            <a:ext cx="642924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iracle is another type of religious experience. It is when something remarkable and unnatural happens that could make you start believing in God. A miracle seems to defy not just probability but also the laws of na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the believer a miracle is regarded as DIVINE INTERVENTION – when God comes down and makes the impossible possible, going against everything we expec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960" y="4740120"/>
            <a:ext cx="632628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) Answer the following questions using full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Pick a miracle from the bible and briefly describe i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(check out the information on the back of the sheet)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2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What makes this event a miracle?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3. How might an atheist explain this event?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What miracle appears to take place in the film ‘Pulp Fiction’?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5. How does the black gangster describe the miracle?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How does the white gangster describe the miracle?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. Why do you think the two gangsters have such different poi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of view on the same event that they have both experienced?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) Draw a cartoon showing the two gangsters, the miracle and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‘thinks bubble’ to show their reaction to the event. The cart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should be about half a page, boxed in and  with your own original title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TOTAL=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45000" y="8740800"/>
            <a:ext cx="3024000" cy="892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8747280"/>
            <a:ext cx="3444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Useful Extra Spel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Coincidence, belief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 believing &amp; religious up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18:33:28Z</dcterms:created>
  <dc:creator>John Cordeaux</dc:creator>
  <dc:description/>
  <dc:language>en-US</dc:language>
  <cp:lastModifiedBy>John Cordeaux</cp:lastModifiedBy>
  <dcterms:modified xsi:type="dcterms:W3CDTF">2002-05-22T19:35:51Z</dcterms:modified>
  <cp:revision>2</cp:revision>
  <dc:subject/>
  <dc:title>Slide 1</dc:title>
</cp:coreProperties>
</file>