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455-50ED-4D6D-8FDC-C07F7379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16A-1161-479B-8E5A-1D7784ED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AAC-2DD5-4834-A314-B3AE9F59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D26-00A5-458B-96F7-7F74D43F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20B-6820-48BD-80B9-1DDF4737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82D-51AA-42B3-AC2B-9E0FC61A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30B-D5FE-46F3-B357-653B98E3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D1B-7400-493C-ACF1-8AF3CFBD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0A3-49AF-4402-89D2-EB931E36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3B9-D0F2-49C1-84D1-401C6757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9D83-A9F0-48A9-A223-4820F02B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876-CB2E-4D82-8D19-C2DB3832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FCE3-1A47-4A42-B3FC-E749E5C085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81000" y="158760"/>
            <a:ext cx="504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Jesus' Mirac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45000" y="7977240"/>
            <a:ext cx="1133640" cy="1638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49360" y="923760"/>
            <a:ext cx="5761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Below are extracts taken from the New Testament showing the different miracles that Jesus perform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hn Cordeaux</cp:lastModifiedBy>
  <dcterms:modified xsi:type="dcterms:W3CDTF">2002-05-23T19:11:13Z</dcterms:modified>
  <cp:revision>1</cp:revision>
  <dc:subject/>
  <dc:title>PowerPoint Presentation</dc:title>
</cp:coreProperties>
</file>