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3B3-93B5-4C5F-9A2A-CD79B3D4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314-5433-4123-938F-15936046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BAB-6C60-480B-9867-241D361C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8A3-4B14-4648-AF7D-6E111FA3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EE1-9C03-4ECC-89E7-D0C1DF8C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35E-1513-40A4-93AB-E8935A23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8FE-EF6C-4A41-8491-191E7D33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69F-4769-4C3D-9935-8702F7CF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19F-095E-4B6A-94CE-E14ED3B5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593-19FC-41D0-AA34-B2F92EEB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886-13CB-435D-B785-88F7AE1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E33-0F7E-479E-81DD-AD248236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39B3-0698-4C88-97B1-144402031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3808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SONS WHY SOME PEOPLE BELIEVE IN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135080"/>
            <a:ext cx="61722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) Copy the title ‘Reasons why some people believe in God’ at the top of a new p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in your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) Copy and complete the following introduction making a  numbered l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Some people believe in God, some do not and some are unsure.</a:t>
            </a:r>
            <a:br>
              <a:rPr sz="1200"/>
            </a:b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eople may believe in God for a variety of reasons. Here are a fe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1. Children often copy their parents. If both parents believe in  Go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  then the son / daughter may well do the same (religious upbringin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2. …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3……….. Up to 10 reasons - if you c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.) Here are 3 cartoons to illustrate different reasons why people may believe in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    God. Now draw and label 3 ORIGINAL cartoons to illustrate 3 of your reasons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   from your list above. Each must have a title and a box. 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8915400"/>
            <a:ext cx="3048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) Now…., using some of the above ideas, explain the reasons why you do (or do not) believe in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e at least 6 li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uska Cordeaux</cp:lastModifiedBy>
  <cp:lastPrinted>2000-05-20T08:23:09Z</cp:lastPrinted>
  <dcterms:modified xsi:type="dcterms:W3CDTF">2000-05-20T08:28:12Z</dcterms:modified>
  <cp:revision>2</cp:revision>
  <dc:subject/>
  <dc:title>No Slide Title</dc:title>
</cp:coreProperties>
</file>