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D1B6-C283-45D7-86CF-1152FC0C4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3A27-E3A5-4B63-A95E-CC523C37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2E9C-972A-4499-BE45-BA1CFF2F3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C7B0-8E60-40D2-A248-3D0D9B51B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2CA6-65BA-4D5B-AF17-3B23B0ED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4358-5431-4C04-8789-E5DC73C3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9F85-4D72-4932-9EB5-1B519F23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B782-117D-4496-9E63-DB84F9BC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71E6-4BBF-404D-B150-FD40D323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8E25-0E50-442E-AD45-326BBFF1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4364-2E94-40ED-B3FA-86B399E9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5B2C-2DC5-4E4D-91C7-9E4D91A3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9C9B-6F46-49F1-8348-C84C30256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76320"/>
            <a:ext cx="4572000" cy="65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28600"/>
            <a:ext cx="3962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Believing in God ? 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447920"/>
            <a:ext cx="426708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is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Someone who believes in the existence of God, the creator and controller of the Universe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hei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Someone who does not believe in the existence of G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gno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Someone who is not sure about the existence of God and needs more proof before they make their mind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Ruska Cordeaux</cp:lastModifiedBy>
  <cp:lastPrinted>2000-05-20T19:03:30Z</cp:lastPrinted>
  <dcterms:modified xsi:type="dcterms:W3CDTF">2000-05-20T19:25:41Z</dcterms:modified>
  <cp:revision>2</cp:revision>
  <dc:subject/>
  <dc:title>No Slide Title</dc:title>
</cp:coreProperties>
</file>