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7239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3BA45-6606-4826-9DA6-CAD87341E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42600"/>
            <a:ext cx="84200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209052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35924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4ACAF-A345-450A-B958-4F15949CB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42600"/>
            <a:ext cx="84200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20905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20905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3592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3592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30009-C88A-441D-8E47-B82F12D77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42600"/>
            <a:ext cx="84200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20905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20905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20905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3592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3592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3592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D99C7-4A0F-4F31-9C29-D980F6615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42600"/>
            <a:ext cx="84200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2090520"/>
            <a:ext cx="842004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9AB8A-5092-4202-8137-EF2DD5C2C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42600"/>
            <a:ext cx="84200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2090520"/>
            <a:ext cx="84200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9F12C-17FA-4FF1-B78E-937DF22B6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42600"/>
            <a:ext cx="84200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20905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20905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83EC1-588B-4D33-BDB9-B3D0A18AA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42600"/>
            <a:ext cx="84200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06126-417F-4A29-91E6-37BB426DC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42600"/>
            <a:ext cx="842004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7951A-FD93-44C5-B0D4-FE4C7A3B9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42600"/>
            <a:ext cx="84200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20905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20905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3592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B7E2F-EFEE-4212-BC38-315881180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42600"/>
            <a:ext cx="84200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20905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20905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3592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71A26-9A38-4E2D-9115-197680ACF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42600"/>
            <a:ext cx="84200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20905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20905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35924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2282D-22AB-4C6F-970A-FDAF51661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42600"/>
            <a:ext cx="84200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2090520"/>
            <a:ext cx="842004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595560"/>
            <a:ext cx="2063520" cy="48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595560"/>
            <a:ext cx="3136680" cy="482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595560"/>
            <a:ext cx="206388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23CC-6CCC-4FD0-9FA3-2F8249612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60240" y="0"/>
            <a:ext cx="8420400" cy="4017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743040" y="0"/>
            <a:ext cx="825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ffering &amp; Evil - How can this be explained by Christians ?</a:t>
            </a: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43" name=""/>
          <p:cNvSpPr/>
          <p:nvPr/>
        </p:nvSpPr>
        <p:spPr>
          <a:xfrm>
            <a:off x="0" y="463680"/>
            <a:ext cx="2971800" cy="688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u="sng">
                <a:solidFill>
                  <a:srgbClr val="000000"/>
                </a:solidFill>
                <a:uFillTx/>
                <a:latin typeface="Comic Sans MS"/>
              </a:rPr>
              <a:t>ADAM &amp; EVE AND THE GARDEN OF EDEN</a:t>
            </a:r>
            <a:endParaRPr b="0" lang="en-US" sz="12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One way of explaining how evil &amp; suffering came into the world is through the story of Adam &amp; Eve in the first book of the Old Testament (Genesi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Most people would today say that this story is not to be taken </a:t>
            </a:r>
            <a:br>
              <a:rPr sz="1100"/>
            </a:br>
            <a:r>
              <a:rPr b="0" lang="en-US" sz="1100" spc="-1" strike="noStrike">
                <a:solidFill>
                  <a:srgbClr val="000000"/>
                </a:solidFill>
                <a:latin typeface="Comic Sans MS"/>
              </a:rPr>
              <a:t>literally but more as a  myth showing how  evil and suffering came into the world.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Adam &amp; Eve are placed by God into the Garden of Eden , a paradise where they have all kinds of trees to eat from, including the tree of lif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God gives them one simple instruction not to eat from the tree of knowledge of Good and Evil. The snake who represents evil</a:t>
            </a:r>
            <a:br>
              <a:rPr sz="1100"/>
            </a:br>
            <a:r>
              <a:rPr b="0" lang="en-US" sz="1100" spc="-1" strike="noStrike">
                <a:solidFill>
                  <a:srgbClr val="000000"/>
                </a:solidFill>
                <a:latin typeface="Comic Sans MS"/>
              </a:rPr>
              <a:t>persuades Eve to eat from the tree. Once this has happened they are no longer conscious of God’s care and love and they try to hide from him to cover up the fact they have disobeyed him. God finds out and banishes them from Eden - this is known as the ‘Fall’ - the fall into</a:t>
            </a:r>
            <a:br>
              <a:rPr sz="1100"/>
            </a:br>
            <a:r>
              <a:rPr b="0" lang="en-US" sz="1100" spc="-1" strike="noStrike">
                <a:solidFill>
                  <a:srgbClr val="000000"/>
                </a:solidFill>
                <a:latin typeface="Comic Sans MS"/>
              </a:rPr>
              <a:t>sin. It is ‘the original sin’ of mankind.</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herefore man &amp; woman brought suffering upon themselves by disobeying God.</a:t>
            </a:r>
            <a:endParaRPr b="0" lang="en-US" sz="11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he story was written to show that evil came into the world through man’s sin. Man and woman were created free to love and obey God or not. They chose not to obey God and so the relationship between God and humans was damaged and as a result, evil came into the world. </a:t>
            </a:r>
            <a:r>
              <a:rPr b="0" lang="en-US" sz="1200" spc="-1" strike="noStrike">
                <a:solidFill>
                  <a:srgbClr val="000000"/>
                </a:solidFill>
                <a:latin typeface="Comic Sans MS"/>
              </a:rPr>
              <a:t> </a:t>
            </a:r>
            <a:endParaRPr b="0" lang="en-US" sz="1200" spc="-1" strike="noStrike">
              <a:solidFill>
                <a:srgbClr val="000000"/>
              </a:solidFill>
              <a:latin typeface="Times New Roman"/>
            </a:endParaRPr>
          </a:p>
        </p:txBody>
      </p:sp>
      <p:sp>
        <p:nvSpPr>
          <p:cNvPr id="44" name=""/>
          <p:cNvSpPr/>
          <p:nvPr/>
        </p:nvSpPr>
        <p:spPr>
          <a:xfrm>
            <a:off x="5943600" y="490680"/>
            <a:ext cx="4038480" cy="522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rPr>
              <a:t>FREEWILL?</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Christians believe that God created humans with freewill. Therefore they have the choice as to what they do. They can either choose Good or Evil.</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If we did not have freewill then we could not make choice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rPr>
              <a:t>WHAT TYPES OF EVIL / SUFFERING ARE THERE IN THE WORLD?</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We call suffering caused by other people a </a:t>
            </a:r>
            <a:r>
              <a:rPr b="1" lang="en-US" sz="1100" spc="-1" strike="noStrike">
                <a:solidFill>
                  <a:srgbClr val="000000"/>
                </a:solidFill>
                <a:latin typeface="Comic Sans MS"/>
              </a:rPr>
              <a:t>Moral Evil</a:t>
            </a:r>
            <a:r>
              <a:rPr b="0" lang="en-US" sz="1100" spc="-1" strike="noStrike">
                <a:solidFill>
                  <a:srgbClr val="000000"/>
                </a:solidFill>
                <a:latin typeface="Comic Sans MS"/>
              </a:rPr>
              <a:t> and suffering caused by nature a </a:t>
            </a:r>
            <a:r>
              <a:rPr b="1" lang="en-US" sz="1100" spc="-1" strike="noStrike">
                <a:solidFill>
                  <a:srgbClr val="000000"/>
                </a:solidFill>
                <a:latin typeface="Comic Sans MS"/>
              </a:rPr>
              <a:t>Natural Evil.</a:t>
            </a:r>
            <a:r>
              <a:rPr b="0" lang="en-US" sz="1100" spc="-1" strike="noStrike">
                <a:solidFill>
                  <a:srgbClr val="000000"/>
                </a:solidFill>
                <a:latin typeface="Comic Sans MS"/>
              </a:rPr>
              <a:t> Examples of a moral evil would be the Holocaust. A natural evil would be a hurricane or a famin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rPr>
              <a:t>JESUS SUFFERED FOR US</a:t>
            </a:r>
            <a:br>
              <a:rPr sz="1100"/>
            </a:br>
            <a:r>
              <a:rPr b="0" lang="en-US" sz="1100" spc="-1" strike="noStrike">
                <a:solidFill>
                  <a:srgbClr val="000000"/>
                </a:solidFill>
                <a:latin typeface="Comic Sans MS"/>
              </a:rPr>
              <a:t>For Christians Jesus provided the ultimate sacrifice by suffering and dying on the cross. By doing this he cancelled out Adam &amp; Eve’s original sin and opened up a pathway way back to God’s love and forgiveness.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omic Sans MS"/>
              </a:rPr>
              <a:t>But the big question to ask is why would God allow evil to be in the world he created? </a:t>
            </a:r>
            <a:br>
              <a:rPr sz="1100"/>
            </a:br>
            <a:r>
              <a:rPr b="0" lang="en-US" sz="1100" spc="-1" strike="noStrike">
                <a:solidFill>
                  <a:srgbClr val="000000"/>
                </a:solidFill>
                <a:latin typeface="Comic Sans MS"/>
              </a:rPr>
              <a:t>God is supposed to be all-knowing (OMNISCIENT), all-loving (BENEVOLENT) and all powerful (OMNIPOTENT) - so how can evil be in a world he created?</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herefore:</a:t>
            </a:r>
            <a:br>
              <a:rPr sz="1100"/>
            </a:br>
            <a:r>
              <a:rPr b="0" lang="en-US" sz="1100" spc="-1" strike="noStrike">
                <a:solidFill>
                  <a:srgbClr val="000000"/>
                </a:solidFill>
                <a:latin typeface="Comic Sans MS"/>
              </a:rPr>
              <a:t>God wants to remove evil and is not able to do so, or God does not want to remove it, If God does not want to remove it then he is not a god of love. If God is not able to remove it then he is not all powerful.</a:t>
            </a:r>
            <a:endParaRPr b="0" lang="en-US" sz="1100" spc="-1" strike="noStrike">
              <a:solidFill>
                <a:srgbClr val="000000"/>
              </a:solidFill>
              <a:latin typeface="Times New Roman"/>
            </a:endParaRPr>
          </a:p>
        </p:txBody>
      </p:sp>
      <p:sp>
        <p:nvSpPr>
          <p:cNvPr id="45" name=""/>
          <p:cNvSpPr/>
          <p:nvPr/>
        </p:nvSpPr>
        <p:spPr>
          <a:xfrm>
            <a:off x="3048120" y="5562720"/>
            <a:ext cx="6858000" cy="15238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124080" y="5564160"/>
            <a:ext cx="6782040" cy="154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In your book write the title - </a:t>
            </a:r>
            <a:r>
              <a:rPr b="1" lang="en-US" sz="1100" spc="-1" strike="noStrike" u="sng">
                <a:solidFill>
                  <a:srgbClr val="000000"/>
                </a:solidFill>
                <a:uFillTx/>
                <a:latin typeface="Century Schoolbook"/>
              </a:rPr>
              <a:t>THE PROBLEM OF SUFFERING &amp; EVIL</a:t>
            </a:r>
            <a:endParaRPr b="0" lang="en-US" sz="11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Then answer the following questions.</a:t>
            </a:r>
            <a:br>
              <a:rPr sz="1100"/>
            </a:br>
            <a:r>
              <a:rPr b="0" lang="en-US" sz="1100" spc="-1" strike="noStrike">
                <a:solidFill>
                  <a:srgbClr val="000000"/>
                </a:solidFill>
                <a:latin typeface="Century Schoolbook"/>
              </a:rPr>
              <a:t>1. In your own words give an overview of the Garden of Eden story.</a:t>
            </a:r>
            <a:br>
              <a:rPr sz="1100"/>
            </a:br>
            <a:r>
              <a:rPr b="0" lang="en-US" sz="1100" spc="-1" strike="noStrike">
                <a:solidFill>
                  <a:srgbClr val="000000"/>
                </a:solidFill>
                <a:latin typeface="Century Schoolbook"/>
              </a:rPr>
              <a:t>2. How do Christians explain how suffering came into the world.</a:t>
            </a:r>
            <a:br>
              <a:rPr sz="1100"/>
            </a:br>
            <a:r>
              <a:rPr b="0" lang="en-US" sz="1100" spc="-1" strike="noStrike">
                <a:solidFill>
                  <a:srgbClr val="000000"/>
                </a:solidFill>
                <a:latin typeface="Century Schoolbook"/>
              </a:rPr>
              <a:t>3. What does the term ‘The Fall’ mean?</a:t>
            </a:r>
            <a:br>
              <a:rPr sz="1100"/>
            </a:br>
            <a:r>
              <a:rPr b="0" lang="en-US" sz="1100" spc="-1" strike="noStrike">
                <a:solidFill>
                  <a:srgbClr val="000000"/>
                </a:solidFill>
                <a:latin typeface="Century Schoolbook"/>
              </a:rPr>
              <a:t>4. Name 5 moral evils and 5 natural evils (discuss with your neighbour, if you need help).</a:t>
            </a:r>
            <a:br>
              <a:rPr sz="1100"/>
            </a:br>
            <a:r>
              <a:rPr b="0" lang="en-US" sz="1100" spc="-1" strike="noStrike">
                <a:solidFill>
                  <a:srgbClr val="000000"/>
                </a:solidFill>
                <a:latin typeface="Century Schoolbook"/>
              </a:rPr>
              <a:t>5. How did Jesus open up the way back to God?</a:t>
            </a:r>
            <a:br>
              <a:rPr sz="1100"/>
            </a:br>
            <a:r>
              <a:rPr b="0" lang="en-US" sz="1100" spc="-1" strike="noStrike">
                <a:solidFill>
                  <a:srgbClr val="000000"/>
                </a:solidFill>
                <a:latin typeface="Century Schoolbook"/>
              </a:rPr>
              <a:t>6. How can evil &amp; suffering be used against the existence of an all powerful all loving God?</a:t>
            </a:r>
            <a:r>
              <a:rPr b="0" lang="en-US" sz="1200" spc="-1" strike="noStrike">
                <a:solidFill>
                  <a:srgbClr val="000000"/>
                </a:solidFill>
                <a:latin typeface="Century Schoolbook"/>
              </a:rPr>
              <a:t> </a:t>
            </a:r>
            <a:endParaRPr b="0" lang="en-US" sz="1200" spc="-1" strike="noStrike">
              <a:solidFill>
                <a:srgbClr val="000000"/>
              </a:solidFill>
              <a:latin typeface="Times New Roman"/>
            </a:endParaRPr>
          </a:p>
        </p:txBody>
      </p:sp>
      <p:sp>
        <p:nvSpPr>
          <p:cNvPr id="47" name=""/>
          <p:cNvSpPr/>
          <p:nvPr/>
        </p:nvSpPr>
        <p:spPr>
          <a:xfrm>
            <a:off x="2895480" y="76212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943600" y="76212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Ruska Cordeaux</cp:lastModifiedBy>
  <cp:lastPrinted>2000-05-22T20:53:22Z</cp:lastPrinted>
  <dcterms:modified xsi:type="dcterms:W3CDTF">2000-05-22T21:01:24Z</dcterms:modified>
  <cp:revision>3</cp:revision>
  <dc:subject/>
  <dc:title>No Slide Title</dc:title>
</cp:coreProperties>
</file>