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F42-BFAE-46EF-BFA4-964AC9F4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FB5-2326-485E-85F0-5FF7E85C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485-728A-4908-B634-12154756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8C2-5A03-44AE-BA6B-B35DA5A5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EB9-E5EB-41D3-9DF0-37863E4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CE0-8DB6-46EB-85F3-B311CA9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EC0-DEC2-4B24-88AC-3B48030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A76-FAC7-4B67-A37D-8A998075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822-A0BC-4765-A4A1-4379A4DE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404-02E5-4E7D-80BA-06C9C7A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F87-D9D8-4CD9-9333-053A7C18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68C-6124-4353-91BE-F764766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63A-3113-46A5-AB65-C2DDCE87D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040" y="115920"/>
            <a:ext cx="471492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307800"/>
            <a:ext cx="34290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840" y="316080"/>
            <a:ext cx="30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THANASIA NEWSPAPER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240" y="1052640"/>
            <a:ext cx="46814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are the editor of 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ritish tabloid newspap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(e.g. The Su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are going to d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 story on the fact tha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uthanasia is now LEGAL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Hol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re you going to be pro or anti Euthana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it’s legal in Holland is the UK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need to look at the information we have come up with on Euthanasia and the Sanctity of Life. Then do a main article on your front page either supporting or against euthanasia giving your views and backing these up with good argumen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Then you will need to do a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smaller article giving an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opposing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member big bold catch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headlines for you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newspaper, how are yo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going to catch you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readers atten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have next lesson to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finish off your newspaper, therefore bring in next week any pictures you want to stick on your A3 to give it more impact. Do a rough layout first and a draft of your 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4960" y="3897360"/>
            <a:ext cx="2232000" cy="21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119320" y="836640"/>
            <a:ext cx="2778120" cy="152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42120" y="115920"/>
            <a:ext cx="47145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6200" y="307800"/>
            <a:ext cx="34290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27920" y="316080"/>
            <a:ext cx="30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THANASIA NEWSPAPER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30960" y="1052640"/>
            <a:ext cx="468144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are the editor of 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ritish tabloid newspap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(e.g. The Su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are going to d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 story on the fact tha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uthanasia is now LEGAL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Hol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re you going to be pro or anti Euthana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it’s legal in Holland is the UK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need to look at the information we have come up with on Euthanasia and the Sanctity of Life. Then do a main article on your front page either supporting or against euthanasia giving your views and backing these up with good argumen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Then you will need to do a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smaller article giving an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opposing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member big bold catch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headlines for you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newspaper, how are yo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going to catch you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readers atten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You have next lesson to 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finish off your newspaper, therefore bring in next week any pictures you want to stick on your A3 to give it more impact. Do a rough layout first and a draft of your 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9680" y="3897360"/>
            <a:ext cx="2232000" cy="212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304040" y="836640"/>
            <a:ext cx="27781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ohn Cordeaux</cp:lastModifiedBy>
  <cp:lastPrinted>1999-11-10T20:53:44Z</cp:lastPrinted>
  <dcterms:modified xsi:type="dcterms:W3CDTF">2002-04-11T22:19:34Z</dcterms:modified>
  <cp:revision>3</cp:revision>
  <dc:subject/>
  <dc:title>No Slide Title</dc:title>
</cp:coreProperties>
</file>